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E22-3EF7-4A38-89B4-B5645D3A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77A-ECF5-4D2E-AAC3-48E7295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E79-5FF3-4365-9821-3216BDAA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0DF-67BB-4B9F-A74E-A75EACC5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ACA0-5608-4A08-8097-FDCB737E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9C0-F6DE-4448-8E51-32B2A469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FC3-D0F0-46FC-B543-E88C45A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E6C-AB11-42A3-BD73-E4B560C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4A6-2C55-4467-A454-9F9B231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243A-7914-4337-8339-9330AC9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94A-652D-4A85-B0CD-AE7AD49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AF7-0018-4880-A33B-2F5B2308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339A-B2F4-4BCA-B449-9F2AA7C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26F-AF3D-4064-9605-AD44886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52C-8FC1-46A6-9AC5-E976DA3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2B5B-E455-4943-9AE4-8D897550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6F4D-DA1B-4F58-8D9C-EB8BF1BB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835-6CC7-4519-B815-B9374BC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0E4-8EEB-442F-A0BC-AD5CE237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F2A-E323-4FCF-921D-F04F3377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CCC-61DB-46C4-A1C8-D1C7B98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006-F187-4A36-99A3-BEED5101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C22-A734-459B-B78F-9EC2F4D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4DD-EB09-42E0-B52A-36D8818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2996-06E8-4A6F-BDA9-EA7BA73340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A62D-59A3-436C-80F9-F5245581C8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covery.gov/" TargetMode="External"/><Relationship Id="rId3" Type="http://schemas.openxmlformats.org/officeDocument/2006/relationships/hyperlink" Target="http://www.kentuckyatwork.ky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Y 10 Budget Balancing Pl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d the Impact of the American Recovery and Reinvestment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 Lass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Budget Direc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4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cre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ducation Fund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9480" y="2043000"/>
            <a:ext cx="784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fety net fu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, time-limited aid for individuals in need due to economic condi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od stamps (SNAP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employment insu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kforce 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ployment assi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undations for economic develop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g run investments with the potential for economic grow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ernative 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rt grid technolo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lth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oadband deplo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 &amp;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ition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etitive appl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por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us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vers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kforce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8000" y="304920"/>
            <a:ext cx="5259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Recovery.g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Kentuckyatwork.ky.g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zing the Revenue Shortfa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23960" y="2362320"/>
            <a:ext cx="7696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osal to Balance FY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w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timulus funds to avert severe c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 spending from budgeted lev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tructure outstanding deb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e revenue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pend pay for certain state holi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required funding in limited 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Y 10 General Fund Budget Probl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1871640"/>
            <a:ext cx="85341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 to Balance FY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520" y="2200320"/>
            <a:ext cx="80010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$636 million less than FY 09 spending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62040" y="2286000"/>
            <a:ext cx="6019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6967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merican Recovery and Reinvestment Act of 2009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s Flowing Through State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714320" cy="146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imulus Funds Intended to Avert Severe Budget Cu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Fiscal Stabilization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$651 million available to be used over the next two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1.8% for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.2% for general government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 counts o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$35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illion (55%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ve $293 million (45%) to help balance FY 1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imulus Funds Intended to Avert Severe Budget Cu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cai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ds the projected General Fund deficit of $85 mill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ds increased levels of Medicaid recipi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gher federal match rate results in temporary General Fund saving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$383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fully funded – no programmatic reductions necess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us funds are temporary and are not to be used to expand the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hanced Revenue Colle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d staffing level at Dept. of Revenue is jeopardizing collection of taxes owed to the Commonwealth, local governments and school distri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hanced staffing results i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hanced compliance eff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icker bi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and quicker au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d interest pay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d processing time on retur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Y 10 increase of $18.5 million projec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Y 11 increase of $34.6 million projec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spension of Pay for Several State Holiday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employees receive 11.5 paid holidays each y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ily suspend pay for a limited number of days to mitigate deeper programmatic cuts and mass layoff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days for those with salaries below $50,0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 days for those with salaries $50,000 and ab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impact to state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rving our Prior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ducation – Our Pledge to Our Childr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S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Postsecondary instit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K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funding for student financial ai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funding for Teachers’ Retir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 health insurance for teachers and state employe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alth Care – Protecting Our Most Vulner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y Fund Medica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Mental Health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Safety – Keeping Kentuckians Sa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State Pol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Local jail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funding for Corr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funding for Prosecu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funding for Public Advoc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onomic Development – Investing in Our Fu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rve Economic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ain Funding for State Par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irement - Keeping Budgeted Increase in Contribution R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8160"/>
            <a:ext cx="929628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rve Priorities With Stimulus Fu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intain Existing Funding – No Redu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K per pupil guarante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tsecondary Education Institu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dica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rve Existing Funding in Priority Are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aight-line funding from current year (FY 09 revis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tal Health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Pol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l Jail Sup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ntucky Horse Pa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s Com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Funding over FY 09 revised – But Less than or equal to Enacted FY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bt Service on bonds previously autho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Insurance for School Districts and State Workers (enac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employer contribution rates for Ky Retirement Systems (enac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’ Retirement System (enac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population-related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Advocacy (enac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terans’ Aff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Financial Aid for Higher Education (enac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dicial Branch – Local Facilities F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posed Funding Higher than FY 10 Enacted leve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2448000"/>
            <a:ext cx="7543800" cy="1960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294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5288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dicated Severance Tax Approp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s (LGEAF &amp; LGEDF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$        19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304920"/>
            <a:ext cx="5259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deral Objec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t money in the pockets of consu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jobs in the near te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investments in areas that will create jobs for the fu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ce policy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 unprecedented accountability and transpar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lance of Government Reduced 2.6% from FY 09 Leve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efforts will be taken to minimize impact to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have begun planning for redu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anning Estimates for Next Bienniu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Fund Revenues Won’t Return to FY 08 levels until FY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w growth in FY 1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Fund = 1.9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ad Fund = 3.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very stronger in FY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Fund = 3.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ad Fund = 4.4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Three-Year Prob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most $600 million has already been reduced over last year &amp; hal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ecasted economic recovery will not be sufficient to support existing spending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Y 10 – 12 biennial budget will be a significant challe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to reserve Stimulus funds to help balance next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Y 10 Budget Balancing Pl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d the Impact of the American Recovery and Reinvestment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 Lass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Budget Direc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4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304920"/>
            <a:ext cx="5259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ate Objec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t money in the pockets of consu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ate jobs in the n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ke investments in areas that will create jobs for the fu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ce policy objec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 unprecedented accountability and transpar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Use funds wisely – they are tempor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63360"/>
            <a:ext cx="8686800" cy="654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1680" y="187200"/>
            <a:ext cx="8001000" cy="648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"/>
          <p:cNvSpPr/>
          <p:nvPr/>
        </p:nvSpPr>
        <p:spPr>
          <a:xfrm>
            <a:off x="990720" y="373392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vern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tegories of Fu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tercyclical fu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ed funding for existing federal pro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fety net fu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ndations for economic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ercyclical Fun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uce the need for states to cut services or raise tax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erves existing jobs and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caid - $990 mill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igher federal match rate for temporary perio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Fiscal Stabilization - $651 mill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ducation (81.8%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Services (18.2%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creases for Existin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ederal Progra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specific uses dict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ucation funding (Title I and IDE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rastructure improv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portation - $421 mill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ater &amp; Sewer modernization - $71 mill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it - $50 mill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 energy programs - $52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atherization - $71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using - $84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ice and Public Safety - $28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ty Development - $12 mill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others – formula and competi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8:59:12Z</dcterms:created>
  <dc:creator>Mary.Lassiter</dc:creator>
  <dc:description/>
  <dc:language>en-US</dc:language>
  <cp:lastModifiedBy>Mary.Lassiter</cp:lastModifiedBy>
  <dcterms:modified xsi:type="dcterms:W3CDTF">2009-06-04T13:16:53Z</dcterms:modified>
  <cp:revision>126</cp:revision>
  <dc:subject/>
  <dc:title>Revenue and Budget Outlook</dc:title>
</cp:coreProperties>
</file>